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39279"/>
        <c:axId val="56060781"/>
      </c:barChart>
      <c:catAx>
        <c:axId val="16939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60781"/>
        <c:crosses val="autoZero"/>
        <c:auto val="1"/>
        <c:lblAlgn val="ctr"/>
        <c:lblOffset val="100"/>
        <c:noMultiLvlLbl val="0"/>
      </c:catAx>
      <c:valAx>
        <c:axId val="56060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9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BDD-21F3-4458-B5E1-8BFFD6E7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A21-0CA9-482C-A7A9-B98F061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397-85DF-4FC3-A486-D1C2F2AA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D28-70A4-46F7-9B27-777DB6DD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396-F59F-4B20-A81E-2FC98D19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8B8-959C-4F30-BC5D-C9A60BCB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942-C7BC-4515-92E7-67BDD0B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28A-F627-4B5F-AF58-10C6B59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42D-680C-4544-9B4A-0B0F441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2BC-02BA-4374-932B-6A04364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AAD-2B14-4EDC-A873-64A826E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C8C-DCAA-43DF-B5F1-EDE6EE3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41F7E-C935-4CB1-A708-200432B387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