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826"/>
        <c:axId val="44863764"/>
      </c:barChart>
      <c:catAx>
        <c:axId val="896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3764"/>
        <c:crosses val="autoZero"/>
        <c:auto val="1"/>
        <c:lblAlgn val="ctr"/>
        <c:lblOffset val="100"/>
        <c:noMultiLvlLbl val="0"/>
      </c:catAx>
      <c:valAx>
        <c:axId val="44863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758-C142-4FE3-BF9C-2F80E76C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269-D821-4033-99F2-74C4B40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A7B-B6AB-4481-B6DF-08FFAF15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560-DA75-4110-A924-A6CA8D5C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15F-F098-417C-AAB1-F878D93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79E-B663-47E3-9224-153A96F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88F-F44F-475C-A8BA-DB29B512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124-A73C-42A2-BD34-A1A3E41B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6BC-7333-4A4F-9027-15F96DD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705-A238-4541-BABD-38D37704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16B-4F4B-4CB8-AE94-EA2FD1A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9B2-4BB7-4CB6-93BF-2F160BD2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88EAA-669E-4805-937D-278D07F78C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