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19985"/>
        <c:axId val="65587596"/>
      </c:barChart>
      <c:catAx>
        <c:axId val="34219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87596"/>
        <c:crosses val="autoZero"/>
        <c:auto val="1"/>
        <c:lblAlgn val="ctr"/>
        <c:lblOffset val="100"/>
        <c:noMultiLvlLbl val="0"/>
      </c:catAx>
      <c:valAx>
        <c:axId val="65587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19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E08-A308-4DA2-B150-536541BC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44A-8128-490D-88A1-6143049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BA1-FDA4-4316-B4B6-3973F5DF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AF9-21CE-47EE-98B1-131A8D0D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B39-C9DC-477B-9CF2-2E97BB88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26C-B170-489A-9D67-94731C04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DBB-0561-4124-BE85-16696EE0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DC8-81EB-4E52-9EAA-6742FA3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218-5CF1-45AA-A203-0F0C870F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E91-E0BC-4422-B47C-1051B8A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3AE-CC2E-4F76-AAA1-064C134B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27D-B5C4-4A25-AAF0-602A319B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E122F-D45A-44A1-888B-5277CCED84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