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86009"/>
        <c:axId val="81423096"/>
      </c:barChart>
      <c:catAx>
        <c:axId val="69986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23096"/>
        <c:crosses val="autoZero"/>
        <c:auto val="1"/>
        <c:lblAlgn val="ctr"/>
        <c:lblOffset val="100"/>
        <c:noMultiLvlLbl val="0"/>
      </c:catAx>
      <c:valAx>
        <c:axId val="81423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86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28F7-2445-4C1F-BFC2-73D49BD4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73B-9628-457B-97AA-3A8869BC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AE5-2584-40F1-AE12-CD9BC220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B577-D987-48A5-9D5E-F45A9D3E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51C-55C4-4BA4-BD8D-5632F03F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5FB-C972-46DD-91AA-252CB451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F605-6586-444F-B35A-4AA0C355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612-5FC4-424C-9564-55A2B2EC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5C33-C6F8-4795-8310-4D1AA531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BB3E-D39C-4852-8D72-49651639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A88-DA7A-4049-84D4-992E9D75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7C9-FDD0-4147-AEF3-1E5F3120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A39B1-8AD5-4757-9370-5E28ABCA26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