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25221"/>
        <c:axId val="16323231"/>
      </c:barChart>
      <c:catAx>
        <c:axId val="25825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23231"/>
        <c:crosses val="autoZero"/>
        <c:auto val="1"/>
        <c:lblAlgn val="ctr"/>
        <c:lblOffset val="100"/>
        <c:noMultiLvlLbl val="0"/>
      </c:catAx>
      <c:valAx>
        <c:axId val="16323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25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64E-7FD0-45E0-B31A-84BB88DE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093-4CAB-42D9-B39F-A99D3046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800-1223-4E45-8833-54119701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E23-9F0E-4D43-82F0-908E2139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0A8-5F22-40F0-9BA1-F4DD2EF8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E19-6594-4DE3-B051-FBB257D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F06-64BE-4F87-A2FF-472E43C4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322-2EEC-47CA-86FD-CB923825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99F-0FB6-4649-812D-29D7AEF3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BA7-8266-451C-81FF-04A9FF4A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E3A-3C8E-47C0-A914-0F7F8677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49A-D3E0-4758-89AD-92397780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49CAD-2839-471C-80D9-3854B3D30E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