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368931"/>
        <c:axId val="57782770"/>
      </c:barChart>
      <c:catAx>
        <c:axId val="303689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782770"/>
        <c:crosses val="autoZero"/>
        <c:auto val="1"/>
        <c:lblAlgn val="ctr"/>
        <c:lblOffset val="100"/>
        <c:noMultiLvlLbl val="0"/>
      </c:catAx>
      <c:valAx>
        <c:axId val="577827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3689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72B0-BC4E-44ED-A933-BCE401A7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C1D8-80D2-4EAF-89DB-E024C33B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A9BD-98EB-41F3-807E-AA007153C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3300-B841-47DC-8CC8-902CEA44D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C877-DD3B-4B09-B82F-086ACDA5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029A-434A-47FE-916A-6D6C99A8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285C-7B00-4D9E-A2EC-20BA2E5D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D347-7316-4E69-8FC9-8E583F78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CEAD-3C6C-4C31-BC0B-F0A2D8FE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E7B0-96C9-402D-954B-6158EDA0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D61C-5C5A-497B-8EC4-7B6E41E8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D41E-A6F1-46A1-B5FA-C35ACB93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1584C-AB73-44E3-9823-74B4E2E9FB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