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88302"/>
        <c:axId val="15746347"/>
      </c:barChart>
      <c:catAx>
        <c:axId val="60788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46347"/>
        <c:crosses val="autoZero"/>
        <c:auto val="1"/>
        <c:lblAlgn val="ctr"/>
        <c:lblOffset val="100"/>
        <c:noMultiLvlLbl val="0"/>
      </c:catAx>
      <c:valAx>
        <c:axId val="15746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88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3F3-B96D-4275-AE35-D6083679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24B-9FBB-4C1C-A47C-2712F846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B57-33F3-47E5-9157-C62AC262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406-0E9B-4851-BFAC-7CE757BF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76F-DF8F-423C-A869-FA9D450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A44-8C6C-4C88-ADD5-0B9D841A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A46-A14E-4AEA-B79F-47A2AA7B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CE7-5A9E-4BD1-BECF-552A062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5C0-CE82-45A2-ABCF-0B6316DD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FF1-7E27-4346-8EBB-C7E97F0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315-5A87-470A-A13E-4480BBD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D10-969F-4605-A1BA-EE4B55A5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90F18-AA76-4369-A96B-E3915D0F45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