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16043"/>
        <c:axId val="65502146"/>
      </c:barChart>
      <c:catAx>
        <c:axId val="95716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02146"/>
        <c:crosses val="autoZero"/>
        <c:auto val="1"/>
        <c:lblAlgn val="ctr"/>
        <c:lblOffset val="100"/>
        <c:noMultiLvlLbl val="0"/>
      </c:catAx>
      <c:valAx>
        <c:axId val="65502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16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9455-B5D3-4085-96D5-27EF9259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4E14-BAD9-4966-84A2-D657C868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C25-F0D9-45D4-87DE-10525FA5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8C9-6604-4A23-8928-4236A4DD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5709-C872-4B7E-BBAA-FF096073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52C-B125-441F-9AD3-ED436E52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31A-B445-45ED-BD89-979D77DD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77DE-DA15-4C7F-A0E5-C5A26E51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A1E5-7875-4826-BAA2-48185C5C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311D-DF5E-48BB-9248-21DAA709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3D85-C4ED-488C-BC73-BCC07C9B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0D5-4D9C-4DC7-8C28-FC3BF4AE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55315-59B0-49FC-9F8D-A8BD70D73B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