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80889"/>
        <c:axId val="80463692"/>
      </c:barChart>
      <c:catAx>
        <c:axId val="38880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63692"/>
        <c:crosses val="autoZero"/>
        <c:auto val="1"/>
        <c:lblAlgn val="ctr"/>
        <c:lblOffset val="100"/>
        <c:noMultiLvlLbl val="0"/>
      </c:catAx>
      <c:valAx>
        <c:axId val="80463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80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6E5-4F07-489E-8D5B-1C376CE3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173-0635-4B89-B0B2-F1A6B5E7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E1B-E5A9-437F-AE98-ABED603C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8D8-5A65-458D-9BC9-39982514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2D6-2966-4902-94B7-7A7BDB30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759-E736-465F-BFEE-0E6C81EB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3D4-D63B-415D-AE7F-7A903A29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625-4634-4067-8B0D-AEC8CEF2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837-D569-4A63-BE84-13BF434E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05C-7234-4371-8B61-AAF23296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032-BE19-4971-B310-40CA4A1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875-B1A1-4997-9F98-3FAFFFFA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F5C14-9800-46E3-85B5-3DE79D46E0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