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06699"/>
        <c:axId val="93559963"/>
      </c:barChart>
      <c:catAx>
        <c:axId val="32806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59963"/>
        <c:crosses val="autoZero"/>
        <c:auto val="1"/>
        <c:lblAlgn val="ctr"/>
        <c:lblOffset val="100"/>
        <c:noMultiLvlLbl val="0"/>
      </c:catAx>
      <c:valAx>
        <c:axId val="93559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06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387-20AD-42F5-88AE-728C0A12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9A1-46F2-4600-8618-340E5631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BED-ADE1-47DC-939C-7D66E214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3CE-4213-4529-80F3-46C8E115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2A8-B94F-4A6E-8B64-0125C4EB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D06-FF07-4EBC-82C2-BC29E4C0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2F5-95B0-4F36-9061-FD74A519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941-B9BD-459D-BD02-C2DDD71A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822-E584-4F6D-AC16-63529C8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768-7678-4CFC-A41C-9E26DA3E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6F7-3E0A-487D-A2EC-1A3FA66F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269-E0A9-400B-AEFD-0656DB1F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E4393-359C-481B-91F2-1415D195FE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