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739001"/>
        <c:axId val="81864633"/>
      </c:barChart>
      <c:catAx>
        <c:axId val="527390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864633"/>
        <c:crosses val="autoZero"/>
        <c:auto val="1"/>
        <c:lblAlgn val="ctr"/>
        <c:lblOffset val="100"/>
        <c:noMultiLvlLbl val="0"/>
      </c:catAx>
      <c:valAx>
        <c:axId val="818646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7390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F222-2AAB-4A6A-A80C-BF59C2C90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1031-BA8C-4F41-82A6-0239A7BCC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7EB4-B249-443A-AA01-2AC180577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0648-B036-4865-84B9-DC6E6098C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0A98-FA35-440F-A910-8A26DB7DC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0D33-A212-479A-AF48-F0FB3FE60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C50B-FAE4-4A77-966F-BCF5ACE9F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08F5-FE51-4E69-8661-559184338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CCEE-69AC-46CC-AB81-3BE3729EB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3A5F-4EF3-4D09-9E84-37A7F971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BDB7-A275-4902-9F53-AF9F7AC7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F694-CC25-4933-AE03-617E9B93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52B77E-50F3-46CF-9A82-55DF08A7E9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