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03008"/>
        <c:axId val="24049324"/>
      </c:barChart>
      <c:catAx>
        <c:axId val="24903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49324"/>
        <c:crosses val="autoZero"/>
        <c:auto val="1"/>
        <c:lblAlgn val="ctr"/>
        <c:lblOffset val="100"/>
        <c:noMultiLvlLbl val="0"/>
      </c:catAx>
      <c:valAx>
        <c:axId val="24049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3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3C8-BE87-41B2-AF51-0400B7E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3A9-B894-497A-9A37-24C2987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DBA-96BA-4C1E-A4B4-D3EA9D5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62D-E581-4208-8594-9E111876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622-18EF-46EC-AF21-1EC4B0EE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22C-49B9-4ACB-B550-CEAD2E1D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535-A5F1-488D-8169-B2CA483C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D0F-78F2-4BC3-891A-BE2B4849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9BD-580C-47FB-BFC0-7070A4C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0F3-6FCC-4295-86D8-9AF84EC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0A1-BA83-41BD-9243-8E03C17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203-53FF-4F5A-98A8-8A26AA5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34B3F-E545-461A-88DB-E1825352F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