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66951"/>
        <c:axId val="78190179"/>
      </c:barChart>
      <c:catAx>
        <c:axId val="61066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90179"/>
        <c:crosses val="autoZero"/>
        <c:auto val="1"/>
        <c:lblAlgn val="ctr"/>
        <c:lblOffset val="100"/>
        <c:noMultiLvlLbl val="0"/>
      </c:catAx>
      <c:valAx>
        <c:axId val="78190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66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237-45A5-4D8C-B957-1A490078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8AE-5015-49C9-8258-5EC054C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516-02C4-408D-BABC-AE657799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E4E-827E-4F95-8BF9-C55A71EA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3F4-1677-4DEC-8A83-8104A0DC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3E8-E9D5-48D1-B734-ABFF0E50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394-AB77-4186-BCBB-3B7F611D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CF0-8CDC-4775-80FF-CFF308D7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C79-C09A-4EC7-84C9-BD77A4F6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858-698C-4922-B77A-5BF31D4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095-BD6F-4822-900E-5F2DA42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A0C-C297-4294-8282-3485B65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FB625-A4C3-4A72-B728-DE7EFF473A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