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26918"/>
        <c:axId val="2470480"/>
      </c:barChart>
      <c:catAx>
        <c:axId val="99226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480"/>
        <c:crosses val="autoZero"/>
        <c:auto val="1"/>
        <c:lblAlgn val="ctr"/>
        <c:lblOffset val="100"/>
        <c:noMultiLvlLbl val="0"/>
      </c:catAx>
      <c:valAx>
        <c:axId val="2470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26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AF4-63B7-47E2-B526-0061D4F1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6200-21D1-4B50-A1C2-2EE737F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507-78D2-44DE-9324-F013A603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8CF-4E5F-4999-85DE-9F11A21C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E6A-3528-4669-B2BA-AA541E12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711-E689-4119-8906-F65E4CFD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3EA-9A46-4549-A016-CEEED50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0F5-CA8B-4AB4-99A0-609591D6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191-8705-4C7E-9C94-41344930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3A7-2E3D-401A-AF70-B2CC9BFE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299-FB00-4B4B-98B7-F00B28AB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650-7830-4BD0-9620-72B7375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76632-4C4D-422B-9947-F023D7147E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