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07649"/>
        <c:axId val="8582011"/>
      </c:barChart>
      <c:catAx>
        <c:axId val="92407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2011"/>
        <c:crosses val="autoZero"/>
        <c:auto val="1"/>
        <c:lblAlgn val="ctr"/>
        <c:lblOffset val="100"/>
        <c:noMultiLvlLbl val="0"/>
      </c:catAx>
      <c:valAx>
        <c:axId val="8582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07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DE0-D8DC-4D23-9C2F-4E8B5169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8C5-8997-44EB-BACA-9FDD2B66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33A-C817-4D5E-8178-EF6CE10E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2B0-7C0E-4966-92D9-08182B7B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C27-1332-4D89-B862-20B1F1E1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471-F178-4A4A-BAC8-406DB529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0F3-E9ED-4D74-A8B6-670058F7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5DE-8F48-40B3-B7AC-359EAECF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F80-F3BA-4697-991C-2F586850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9CA-992D-45B6-8D85-EF766F9E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3B6-0958-4A25-939F-F335D283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6B5-7A46-408A-B625-54E7A7D5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6F9E8-04AE-484E-BA13-9D5C2C8A6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