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1774"/>
        <c:axId val="24078938"/>
      </c:barChart>
      <c:catAx>
        <c:axId val="7101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8938"/>
        <c:crosses val="autoZero"/>
        <c:auto val="1"/>
        <c:lblAlgn val="ctr"/>
        <c:lblOffset val="100"/>
        <c:noMultiLvlLbl val="0"/>
      </c:catAx>
      <c:valAx>
        <c:axId val="2407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EF8-7325-46BF-B638-21F4969A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6C4-4855-49CF-8E98-0E7BCB4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B73-876D-4C85-AB3F-101C5489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9D4-64A3-4EBC-9653-03BF6674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4E7-7C47-4AF0-A661-CC07679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CA4-4194-4064-8218-B212955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A57-EE15-430A-83A5-33B1D12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CB0-AC54-49DC-8C41-0F9DC99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6BB-EE90-4FCB-8DB9-91F11C9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9F4-DEDE-4393-B7C5-7C8C586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3D0-AC87-4206-B230-CE29AFB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29D-9683-4087-83FF-CCD424F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8CF6C-664B-4162-A2AC-574A7BEE3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