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64792"/>
        <c:axId val="85068236"/>
      </c:barChart>
      <c:catAx>
        <c:axId val="63164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68236"/>
        <c:crosses val="autoZero"/>
        <c:auto val="1"/>
        <c:lblAlgn val="ctr"/>
        <c:lblOffset val="100"/>
        <c:noMultiLvlLbl val="0"/>
      </c:catAx>
      <c:valAx>
        <c:axId val="85068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64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00C-DDB9-47C9-9666-2CE4D9CE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1EA-7336-45CE-872C-61364720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E1E-1CC1-4595-B978-6B8AC613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A3D-C359-4AC8-B4E2-C91538CA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FBA-0E3A-4721-A499-F20AAAC1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3BE-1A66-40F4-A0B3-B7741979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216-9995-4BB0-881C-F7F0749A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57F-A313-4F65-85AE-997BF7DC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711-6075-48FC-83E2-DC3E4A93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29F-F828-487C-9D19-8A7B1FE7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4AB-58CF-4670-AB4E-6D6C8CCE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E2F-E0BE-40FD-AE50-F63F2B58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567B1-94DF-4361-A93C-885081ECEE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