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86426"/>
        <c:axId val="51740582"/>
      </c:barChart>
      <c:catAx>
        <c:axId val="91986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40582"/>
        <c:crosses val="autoZero"/>
        <c:auto val="1"/>
        <c:lblAlgn val="ctr"/>
        <c:lblOffset val="100"/>
        <c:noMultiLvlLbl val="0"/>
      </c:catAx>
      <c:valAx>
        <c:axId val="51740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86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1A6-8D68-4C90-8601-3BB0EF7A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0F5-6076-4AB2-987B-E6ED899F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307-4282-4EE0-8EF8-A527158B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961-2313-4D71-A3D2-F37330A0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42A-2ECF-4966-9778-C9658287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B4C-755D-413E-A590-AA7BC810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E4C-7A74-4CF9-9B5F-EA706317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C39-F506-45B6-9DB4-507B9C3E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697-6B2F-4E6C-9462-198E1633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C83-5E37-460D-BF13-F821C74F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E72-4942-4F27-A54F-D2BFAE79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3B1-5164-4384-BAB2-3C35EC3D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C24BB-2F64-4AF8-85A4-7F4763A383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