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134090"/>
        <c:axId val="6518560"/>
      </c:barChart>
      <c:catAx>
        <c:axId val="96134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560"/>
        <c:crosses val="autoZero"/>
        <c:auto val="1"/>
        <c:lblAlgn val="ctr"/>
        <c:lblOffset val="100"/>
        <c:noMultiLvlLbl val="0"/>
      </c:catAx>
      <c:valAx>
        <c:axId val="6518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34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7D8-F582-41EC-95A6-1EAE29C2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364-6FAF-4F9D-B36E-802AB236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976-6F0F-4A87-B021-CFE530F8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32D-B756-49DE-935A-456A2E61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CA7-F88E-43AB-A54D-8F8856EA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B04-4886-437B-9FB7-132C9766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A58-6E2B-4B1B-967F-5D7807D7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034-D507-4D6F-8F43-E7A88F38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6AB7-A150-4DE6-A5DA-AAD1FC39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34A-DB2A-452D-8290-D947B086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B8F-189B-45F5-B1D6-E3F90803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FEC-B33B-4EFF-A37B-D5FC8DA2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90FDB-38DF-4DA2-BBA9-F442C780BC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