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35188"/>
        <c:axId val="1637424"/>
      </c:barChart>
      <c:catAx>
        <c:axId val="57035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7424"/>
        <c:crosses val="autoZero"/>
        <c:auto val="1"/>
        <c:lblAlgn val="ctr"/>
        <c:lblOffset val="100"/>
        <c:noMultiLvlLbl val="0"/>
      </c:catAx>
      <c:valAx>
        <c:axId val="1637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35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9B0-448F-4727-B605-9F085E1A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20A-EEE4-496B-8600-3868C98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61A-1E30-40C0-9EFA-1660B50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B2D-DB79-447E-A727-75C796A3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25B-B7EA-4542-89A1-E8EE1DF9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AF5-8548-40A6-8E78-A7B46A9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20C-140F-443A-8832-FC9985D3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ED1-15B8-4F48-875E-2B67010B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FC2-F08E-4262-A0FE-6FA9095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CBD-1CA5-45C2-971D-6A4C06B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748-061B-4DAE-B703-0D80520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F87-19D5-4988-9BEA-BA2E4E9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B9B54-8E94-4C79-B90C-7FBA8C888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